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07E-8BA3-45E7-BA55-E2B55431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846-6B8C-445B-994B-C8B54CD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C4B-7D31-48B0-8792-A7CD6B8F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B1A-8A56-443B-A31B-DB7674F7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42A-B919-4AA3-BA69-1A595FB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202-E2C7-4015-A511-F355D2B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7A9-3214-4498-B3F1-ACCD3F0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DE8-CADE-4EFD-B725-28B6C9C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5C7-A6BA-402C-A4EA-9FAF00A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CA9-2A00-4CF7-B4D9-9526755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47C-1A4B-41B7-9B47-CDF12D4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EF3-3BCE-45E2-97FE-02B8A8EC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A0C5-42E9-43DB-A2E2-A62A6BB41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80880" y="1143000"/>
            <a:ext cx="85345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就英法联军远征中国给巴特勒上尉的信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5181480" y="411480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noFill/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法国 雨果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noFill/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2666880" cy="261792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rj04.eps" descr="id:2147500279;FounderCES"/>
          <p:cNvPicPr/>
          <p:nvPr/>
        </p:nvPicPr>
        <p:blipFill>
          <a:blip r:embed="rId2"/>
          <a:stretch/>
        </p:blipFill>
        <p:spPr>
          <a:xfrm>
            <a:off x="468360" y="155736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2079000" y="1576080"/>
            <a:ext cx="4947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读完全文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说说雨果是怎样评价圆明园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先作总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称圆明园是“世界奇迹”。以全球眼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肯定其艺术价值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上的地位。接着与巴特农神庙比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圆明园的艺术性和成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园是东方幻想艺术中的最高成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明园几乎集中了超人的民族的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象力所能产生的一切成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明园是幻想的某种规模巨大的典范。作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具体讲述了园中之物。由概括到具体再到概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述了圆明园是怎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一座园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次说了建筑材料、陈设、装饰、园林景观等。然后讲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费劳动之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讲圆明园是属于全人类的亚洲文明的杰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角圆角矩形 5"/>
          <p:cNvSpPr/>
          <p:nvPr/>
        </p:nvSpPr>
        <p:spPr>
          <a:xfrm>
            <a:off x="468360" y="1628640"/>
            <a:ext cx="8207280" cy="720720"/>
          </a:xfrm>
          <a:custGeom>
            <a:avLst/>
            <a:gdLst/>
            <a:ahLst/>
            <a:rect l="l" t="t" r="r" b="b"/>
            <a:pathLst>
              <a:path w="8208912" h="720080">
                <a:moveTo>
                  <a:pt x="120015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600064"/>
                </a:lnTo>
                <a:cubicBezTo>
                  <a:pt x="8208912" y="666346"/>
                  <a:pt x="8155179" y="720079"/>
                  <a:pt x="8088897" y="720079"/>
                </a:cubicBezTo>
                <a:lnTo>
                  <a:pt x="0" y="720080"/>
                </a:lnTo>
                <a:lnTo>
                  <a:pt x="0" y="720080"/>
                </a:lnTo>
                <a:lnTo>
                  <a:pt x="0" y="120015"/>
                </a:lnTo>
                <a:cubicBezTo>
                  <a:pt x="0" y="53733"/>
                  <a:pt x="53733" y="0"/>
                  <a:pt x="12001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标注 6"/>
          <p:cNvSpPr/>
          <p:nvPr/>
        </p:nvSpPr>
        <p:spPr>
          <a:xfrm>
            <a:off x="395280" y="2565360"/>
            <a:ext cx="8353440" cy="3311640"/>
          </a:xfrm>
          <a:prstGeom prst="wedgeRoundRectCallout">
            <a:avLst>
              <a:gd name="adj1" fmla="val 7856"/>
              <a:gd name="adj2" fmla="val -5506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8"/>
          <p:cNvSpPr/>
          <p:nvPr/>
        </p:nvSpPr>
        <p:spPr>
          <a:xfrm>
            <a:off x="61128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7"/>
          <p:cNvSpPr/>
          <p:nvPr/>
        </p:nvSpPr>
        <p:spPr>
          <a:xfrm>
            <a:off x="468360" y="620640"/>
            <a:ext cx="2158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539640" y="1149120"/>
            <a:ext cx="8099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从文章所表达的思想感情来看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你怎样看待雨果这位作家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法联军远征中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侵略与被侵略、掠夺与被掠夺、破坏与被破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本来是判然分明的。但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一名法国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容易被当局制造的舆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蒙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容易被狭隘的爱国狂热所支配。然而雨果以清晰头脑、正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知、公正立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我们看到了他的博大胸怀和高尚品格。雨果的立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狭隘的民族主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全人类的立场。他能将政府与人民相区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有时会是强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人民永远也不会是强盗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盗政府不能代表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兰西人民对中国人民是友好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焚掠圆明园是英法政府的罪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人民的立场上抗议政府犯下的罪行。他指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强盗政府颠倒黑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以为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以为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厚颜无耻。他公开指斥政府的罪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需要极大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对角圆角矩形 5"/>
          <p:cNvSpPr/>
          <p:nvPr/>
        </p:nvSpPr>
        <p:spPr>
          <a:xfrm>
            <a:off x="250920" y="1197000"/>
            <a:ext cx="8353440" cy="4968720"/>
          </a:xfrm>
          <a:custGeom>
            <a:avLst/>
            <a:gdLst/>
            <a:ahLst/>
            <a:rect l="l" t="t" r="r" b="b"/>
            <a:pathLst>
              <a:path w="8352928" h="4968552">
                <a:moveTo>
                  <a:pt x="82810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4140443"/>
                </a:lnTo>
                <a:cubicBezTo>
                  <a:pt x="8352928" y="4597794"/>
                  <a:pt x="7982171" y="4968551"/>
                  <a:pt x="7524820" y="4968551"/>
                </a:cubicBezTo>
                <a:lnTo>
                  <a:pt x="0" y="4968552"/>
                </a:lnTo>
                <a:lnTo>
                  <a:pt x="0" y="4968552"/>
                </a:lnTo>
                <a:lnTo>
                  <a:pt x="0" y="828108"/>
                </a:lnTo>
                <a:cubicBezTo>
                  <a:pt x="0" y="370757"/>
                  <a:pt x="370757" y="0"/>
                  <a:pt x="82810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900000" y="93132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加点字读音有误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呵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hē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   杀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纳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uì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 颤巍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瞥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iē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给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ǐ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珐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f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  赤裸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uǒ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闪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uò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肃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鞠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ū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 　 眼花缭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箱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è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憧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ō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瓦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ì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   片纸只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017040" y="981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4"/>
          <p:cNvSpPr/>
          <p:nvPr/>
        </p:nvSpPr>
        <p:spPr>
          <a:xfrm>
            <a:off x="4643280" y="198900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5"/>
          <p:cNvSpPr/>
          <p:nvPr/>
        </p:nvSpPr>
        <p:spPr>
          <a:xfrm>
            <a:off x="161928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6"/>
          <p:cNvSpPr/>
          <p:nvPr/>
        </p:nvSpPr>
        <p:spPr>
          <a:xfrm>
            <a:off x="4356000" y="2565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8"/>
          <p:cNvSpPr/>
          <p:nvPr/>
        </p:nvSpPr>
        <p:spPr>
          <a:xfrm>
            <a:off x="133200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9"/>
          <p:cNvSpPr/>
          <p:nvPr/>
        </p:nvSpPr>
        <p:spPr>
          <a:xfrm>
            <a:off x="442764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0"/>
          <p:cNvSpPr/>
          <p:nvPr/>
        </p:nvSpPr>
        <p:spPr>
          <a:xfrm>
            <a:off x="4716360" y="3645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4716360" y="4149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2"/>
          <p:cNvSpPr/>
          <p:nvPr/>
        </p:nvSpPr>
        <p:spPr>
          <a:xfrm>
            <a:off x="5003640" y="472428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3"/>
          <p:cNvSpPr/>
          <p:nvPr/>
        </p:nvSpPr>
        <p:spPr>
          <a:xfrm>
            <a:off x="442764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4"/>
          <p:cNvSpPr/>
          <p:nvPr/>
        </p:nvSpPr>
        <p:spPr>
          <a:xfrm>
            <a:off x="5003640" y="580536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5"/>
          <p:cNvSpPr/>
          <p:nvPr/>
        </p:nvSpPr>
        <p:spPr>
          <a:xfrm>
            <a:off x="1763640" y="5805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6"/>
          <p:cNvSpPr/>
          <p:nvPr/>
        </p:nvSpPr>
        <p:spPr>
          <a:xfrm>
            <a:off x="1403280" y="1989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7"/>
          <p:cNvSpPr/>
          <p:nvPr/>
        </p:nvSpPr>
        <p:spPr>
          <a:xfrm>
            <a:off x="1692360" y="422100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8"/>
          <p:cNvSpPr/>
          <p:nvPr/>
        </p:nvSpPr>
        <p:spPr>
          <a:xfrm>
            <a:off x="133200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9"/>
          <p:cNvSpPr/>
          <p:nvPr/>
        </p:nvSpPr>
        <p:spPr>
          <a:xfrm>
            <a:off x="133200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0"/>
          <p:cNvSpPr/>
          <p:nvPr/>
        </p:nvSpPr>
        <p:spPr>
          <a:xfrm>
            <a:off x="1692360" y="5300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对角圆角矩形 21"/>
          <p:cNvSpPr/>
          <p:nvPr/>
        </p:nvSpPr>
        <p:spPr>
          <a:xfrm>
            <a:off x="684360" y="981000"/>
            <a:ext cx="7272360" cy="5112000"/>
          </a:xfrm>
          <a:custGeom>
            <a:avLst/>
            <a:gdLst/>
            <a:ahLst/>
            <a:rect l="l" t="t" r="r" b="b"/>
            <a:pathLst>
              <a:path w="7272808" h="5112568">
                <a:moveTo>
                  <a:pt x="852111" y="0"/>
                </a:moveTo>
                <a:lnTo>
                  <a:pt x="7272808" y="0"/>
                </a:lnTo>
                <a:lnTo>
                  <a:pt x="7272808" y="0"/>
                </a:lnTo>
                <a:lnTo>
                  <a:pt x="7272808" y="4260456"/>
                </a:lnTo>
                <a:cubicBezTo>
                  <a:pt x="7272808" y="4731064"/>
                  <a:pt x="6891305" y="5112567"/>
                  <a:pt x="6420697" y="5112567"/>
                </a:cubicBezTo>
                <a:lnTo>
                  <a:pt x="0" y="5112568"/>
                </a:lnTo>
                <a:lnTo>
                  <a:pt x="0" y="5112568"/>
                </a:lnTo>
                <a:lnTo>
                  <a:pt x="0" y="852111"/>
                </a:lnTo>
                <a:cubicBezTo>
                  <a:pt x="0" y="381503"/>
                  <a:pt x="381503" y="0"/>
                  <a:pt x="8521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826920" y="1822320"/>
            <a:ext cx="8317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词语书写无误的一项是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恍惚　荒谬　地窑　不可名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脏物　琉璃　晨曦　汤然无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匍匐　鞠躬　抚晓　丰功伟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裁　赔偿　恳切　永垂不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652068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对角圆角矩形 4"/>
          <p:cNvSpPr/>
          <p:nvPr/>
        </p:nvSpPr>
        <p:spPr>
          <a:xfrm>
            <a:off x="539640" y="1700280"/>
            <a:ext cx="7777440" cy="3673440"/>
          </a:xfrm>
          <a:custGeom>
            <a:avLst/>
            <a:gdLst/>
            <a:ahLst/>
            <a:rect l="l" t="t" r="r" b="b"/>
            <a:pathLst>
              <a:path w="7776864" h="3672408">
                <a:moveTo>
                  <a:pt x="612080" y="0"/>
                </a:moveTo>
                <a:lnTo>
                  <a:pt x="7776864" y="0"/>
                </a:lnTo>
                <a:lnTo>
                  <a:pt x="7776864" y="0"/>
                </a:lnTo>
                <a:lnTo>
                  <a:pt x="7776864" y="3060327"/>
                </a:lnTo>
                <a:cubicBezTo>
                  <a:pt x="7776864" y="3398369"/>
                  <a:pt x="7502826" y="3672407"/>
                  <a:pt x="7164784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1739160" y="1073160"/>
            <a:ext cx="548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语境解释下列加点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强盗洗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个强盗放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所有大教堂的财宝加在一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还抵不上东方这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不起的富丽堂皇的博物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兰西帝国吞下了这次胜利的一半赃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帝国居然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真地以为自己就是真正的物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1534320" y="227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财物抢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11280" y="3933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里形容东方这座博物馆宏伟豪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1403280" y="5516640"/>
            <a:ext cx="35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非法手段获取的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形标注 9"/>
          <p:cNvSpPr/>
          <p:nvPr/>
        </p:nvSpPr>
        <p:spPr>
          <a:xfrm>
            <a:off x="539640" y="2276640"/>
            <a:ext cx="2160720" cy="504720"/>
          </a:xfrm>
          <a:prstGeom prst="wedgeEllipseCallout">
            <a:avLst>
              <a:gd name="adj1" fmla="val 47037"/>
              <a:gd name="adj2" fmla="val -75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标注 10"/>
          <p:cNvSpPr/>
          <p:nvPr/>
        </p:nvSpPr>
        <p:spPr>
          <a:xfrm>
            <a:off x="611280" y="3860640"/>
            <a:ext cx="4752720" cy="576360"/>
          </a:xfrm>
          <a:prstGeom prst="wedgeRoundRectCallout">
            <a:avLst>
              <a:gd name="adj1" fmla="val 37222"/>
              <a:gd name="adj2" fmla="val -7160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标注 11"/>
          <p:cNvSpPr/>
          <p:nvPr/>
        </p:nvSpPr>
        <p:spPr>
          <a:xfrm>
            <a:off x="1332000" y="5516640"/>
            <a:ext cx="5040360" cy="504720"/>
          </a:xfrm>
          <a:prstGeom prst="wedgeRoundRectCallout">
            <a:avLst>
              <a:gd name="adj1" fmla="val 39847"/>
              <a:gd name="adj2" fmla="val -7512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2"/>
          <p:cNvSpPr/>
          <p:nvPr/>
        </p:nvSpPr>
        <p:spPr>
          <a:xfrm>
            <a:off x="219564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3"/>
          <p:cNvSpPr/>
          <p:nvPr/>
        </p:nvSpPr>
        <p:spPr>
          <a:xfrm>
            <a:off x="2484360" y="2133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4"/>
          <p:cNvSpPr/>
          <p:nvPr/>
        </p:nvSpPr>
        <p:spPr>
          <a:xfrm>
            <a:off x="1763640" y="378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5"/>
          <p:cNvSpPr/>
          <p:nvPr/>
        </p:nvSpPr>
        <p:spPr>
          <a:xfrm>
            <a:off x="2124000" y="378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6"/>
          <p:cNvSpPr/>
          <p:nvPr/>
        </p:nvSpPr>
        <p:spPr>
          <a:xfrm>
            <a:off x="2411280" y="378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7"/>
          <p:cNvSpPr/>
          <p:nvPr/>
        </p:nvSpPr>
        <p:spPr>
          <a:xfrm>
            <a:off x="270036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8"/>
          <p:cNvSpPr/>
          <p:nvPr/>
        </p:nvSpPr>
        <p:spPr>
          <a:xfrm>
            <a:off x="5580000" y="486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5867280" y="4869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539640" y="1270800"/>
            <a:ext cx="842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常识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选自《雨果文集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雨果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家。他的代表作品有小说《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《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和《九三年》等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4749840" y="148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法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1521720" y="198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巴黎圣母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326952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悲惨世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539640" y="30330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中的标点使用完全正确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征求我对远征中国的意见。您认为这次远征是体面的、出色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有两个来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理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想产生欧洲艺术。一是幻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想产生东方艺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功伟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获巨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胜利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塞满了腰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看得见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个装满了箱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20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美国国家评论会大奖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揭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题材电影《雨果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了年度最佳影片、最佳导演两项大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611280" y="5084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体面的”后应为逗号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理想产生欧洲艺术”后应为分号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丰功伟绩”后应为叹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6095160" y="256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对角圆角矩形 9"/>
          <p:cNvSpPr/>
          <p:nvPr/>
        </p:nvSpPr>
        <p:spPr>
          <a:xfrm>
            <a:off x="250920" y="1052640"/>
            <a:ext cx="8642160" cy="4897440"/>
          </a:xfrm>
          <a:custGeom>
            <a:avLst/>
            <a:gdLst/>
            <a:ahLst/>
            <a:rect l="l" t="t" r="r" b="b"/>
            <a:pathLst>
              <a:path w="8640960" h="4896544">
                <a:moveTo>
                  <a:pt x="816106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4080437"/>
                </a:lnTo>
                <a:cubicBezTo>
                  <a:pt x="8640960" y="4531160"/>
                  <a:pt x="8275577" y="4896543"/>
                  <a:pt x="7824854" y="4896543"/>
                </a:cubicBezTo>
                <a:lnTo>
                  <a:pt x="0" y="4896544"/>
                </a:lnTo>
                <a:lnTo>
                  <a:pt x="0" y="4896544"/>
                </a:lnTo>
                <a:lnTo>
                  <a:pt x="0" y="816106"/>
                </a:lnTo>
                <a:cubicBezTo>
                  <a:pt x="0" y="365383"/>
                  <a:pt x="365383" y="0"/>
                  <a:pt x="81610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162520" y="1038240"/>
            <a:ext cx="5416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性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是我国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文化遗产日。为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开展了以“珍爱文化遗产”为主题的综合性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也来参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是历史悠久的文明古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营造保护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遗产的良好氛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学生的文化遗产保护意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召开一次宣传活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为本次活动拟写宣传标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11280" y="4581360"/>
            <a:ext cx="806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护文化遗产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构建和谐社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护文化遗产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护我们的文化根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对角圆角矩形 4"/>
          <p:cNvSpPr/>
          <p:nvPr/>
        </p:nvSpPr>
        <p:spPr>
          <a:xfrm>
            <a:off x="539640" y="1052640"/>
            <a:ext cx="8353440" cy="3168360"/>
          </a:xfrm>
          <a:custGeom>
            <a:avLst/>
            <a:gdLst/>
            <a:ahLst/>
            <a:rect l="l" t="t" r="r" b="b"/>
            <a:pathLst>
              <a:path w="8352928" h="3168352">
                <a:moveTo>
                  <a:pt x="52806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2640282"/>
                </a:lnTo>
                <a:cubicBezTo>
                  <a:pt x="8352928" y="2931926"/>
                  <a:pt x="8116503" y="3168351"/>
                  <a:pt x="7824859" y="3168351"/>
                </a:cubicBezTo>
                <a:lnTo>
                  <a:pt x="0" y="3168352"/>
                </a:lnTo>
                <a:lnTo>
                  <a:pt x="0" y="3168352"/>
                </a:lnTo>
                <a:lnTo>
                  <a:pt x="0" y="528069"/>
                </a:lnTo>
                <a:cubicBezTo>
                  <a:pt x="0" y="236425"/>
                  <a:pt x="236425" y="0"/>
                  <a:pt x="52806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标注 6"/>
          <p:cNvSpPr/>
          <p:nvPr/>
        </p:nvSpPr>
        <p:spPr>
          <a:xfrm>
            <a:off x="611280" y="4508640"/>
            <a:ext cx="8208720" cy="1512720"/>
          </a:xfrm>
          <a:prstGeom prst="wedgeRoundRectCallout">
            <a:avLst>
              <a:gd name="adj1" fmla="val -92"/>
              <a:gd name="adj2" fmla="val -6052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1945080" y="961560"/>
            <a:ext cx="55188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年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一些珍贵文物不断流失海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人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。对于身边的文化遗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该采取怎样的措施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保护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755640" y="3357720"/>
            <a:ext cx="777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加强文化遗产保护的教育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制定更加严厉的文化遗产保护法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抢救保护有艺术价值的古建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尽最大可能追讨流失国外的珍贵文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标注 4"/>
          <p:cNvSpPr/>
          <p:nvPr/>
        </p:nvSpPr>
        <p:spPr>
          <a:xfrm>
            <a:off x="611280" y="3284640"/>
            <a:ext cx="8208720" cy="2305080"/>
          </a:xfrm>
          <a:prstGeom prst="wedgeRoundRectCallout">
            <a:avLst>
              <a:gd name="adj1" fmla="val -5277"/>
              <a:gd name="adj2" fmla="val -640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878840" y="1139760"/>
            <a:ext cx="552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近平主席访问斯里兰卡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教育我们的公民到海外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讲文明。矿泉水瓶子不要乱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去破坏人家的珊瑚礁。少吃方便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吃当地海鲜。”旅游本是美好的一件事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若是这些美丽的画面被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明现象所破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绝对是大煞风景的。如果你发现有同学在北京故宫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墙上涂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将如何劝阻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说法不得体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住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行为不仅破坏了故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还有损你的个人形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故宫是我们共同的责任。我们应该文明旅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痕迹也别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位同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是我国珍贵的文化遗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每一个人都要爱护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涂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手下留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随意涂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也会感谢你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979640" y="4874040"/>
            <a:ext cx="47462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答此类型试题需要注意以下三方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劝说口吻以礼待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劝说方法以理服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劝说语言以简悦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6993360" y="234936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对角圆角矩形 6"/>
          <p:cNvSpPr/>
          <p:nvPr/>
        </p:nvSpPr>
        <p:spPr>
          <a:xfrm>
            <a:off x="250920" y="1125360"/>
            <a:ext cx="8569080" cy="3527640"/>
          </a:xfrm>
          <a:custGeom>
            <a:avLst/>
            <a:gdLst/>
            <a:ahLst/>
            <a:rect l="l" t="t" r="r" b="b"/>
            <a:pathLst>
              <a:path w="8568952" h="3528392">
                <a:moveTo>
                  <a:pt x="588077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2940314"/>
                </a:lnTo>
                <a:cubicBezTo>
                  <a:pt x="8568952" y="3265100"/>
                  <a:pt x="8305661" y="3528391"/>
                  <a:pt x="7980875" y="3528391"/>
                </a:cubicBezTo>
                <a:lnTo>
                  <a:pt x="0" y="3528392"/>
                </a:lnTo>
                <a:lnTo>
                  <a:pt x="0" y="3528392"/>
                </a:lnTo>
                <a:lnTo>
                  <a:pt x="0" y="588077"/>
                </a:lnTo>
                <a:cubicBezTo>
                  <a:pt x="0" y="263291"/>
                  <a:pt x="263291" y="0"/>
                  <a:pt x="58807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标注 7"/>
          <p:cNvSpPr/>
          <p:nvPr/>
        </p:nvSpPr>
        <p:spPr>
          <a:xfrm>
            <a:off x="324000" y="4869000"/>
            <a:ext cx="8496000" cy="1152360"/>
          </a:xfrm>
          <a:prstGeom prst="wedgeRoundRectCallout">
            <a:avLst>
              <a:gd name="adj1" fmla="val 875"/>
              <a:gd name="adj2" fmla="val -6475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1436040" y="1465200"/>
            <a:ext cx="5898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字音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珐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缀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箱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惊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瞥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脂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偷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恍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朱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赃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制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82160" y="220500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711960" y="2276640"/>
            <a:ext cx="9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5945760" y="2205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914840" y="292428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847680" y="285264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019200" y="292428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913400" y="35002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851280" y="35002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5871960" y="350028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2052000" y="414972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851280" y="407664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6154200" y="4149720"/>
            <a:ext cx="6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176400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2"/>
          <p:cNvSpPr/>
          <p:nvPr/>
        </p:nvSpPr>
        <p:spPr>
          <a:xfrm>
            <a:off x="1258920" y="4005360"/>
            <a:ext cx="2174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3"/>
          <p:cNvSpPr/>
          <p:nvPr/>
        </p:nvSpPr>
        <p:spPr>
          <a:xfrm>
            <a:off x="3419640" y="4005360"/>
            <a:ext cx="215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4"/>
          <p:cNvSpPr/>
          <p:nvPr/>
        </p:nvSpPr>
        <p:spPr>
          <a:xfrm>
            <a:off x="5148360" y="4005360"/>
            <a:ext cx="215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5"/>
          <p:cNvSpPr/>
          <p:nvPr/>
        </p:nvSpPr>
        <p:spPr>
          <a:xfrm>
            <a:off x="1547640" y="3357720"/>
            <a:ext cx="21600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6"/>
          <p:cNvSpPr/>
          <p:nvPr/>
        </p:nvSpPr>
        <p:spPr>
          <a:xfrm>
            <a:off x="3492360" y="3357720"/>
            <a:ext cx="21600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7"/>
          <p:cNvSpPr/>
          <p:nvPr/>
        </p:nvSpPr>
        <p:spPr>
          <a:xfrm>
            <a:off x="5148360" y="3357720"/>
            <a:ext cx="21564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8"/>
          <p:cNvSpPr/>
          <p:nvPr/>
        </p:nvSpPr>
        <p:spPr>
          <a:xfrm>
            <a:off x="5219640" y="270828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9"/>
          <p:cNvSpPr/>
          <p:nvPr/>
        </p:nvSpPr>
        <p:spPr>
          <a:xfrm>
            <a:off x="3492360" y="270828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0"/>
          <p:cNvSpPr/>
          <p:nvPr/>
        </p:nvSpPr>
        <p:spPr>
          <a:xfrm>
            <a:off x="1547640" y="270828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1"/>
          <p:cNvSpPr/>
          <p:nvPr/>
        </p:nvSpPr>
        <p:spPr>
          <a:xfrm>
            <a:off x="5724360" y="465300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3203640" y="465300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3"/>
          <p:cNvSpPr/>
          <p:nvPr/>
        </p:nvSpPr>
        <p:spPr>
          <a:xfrm>
            <a:off x="1547640" y="4581360"/>
            <a:ext cx="21600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4"/>
          <p:cNvSpPr/>
          <p:nvPr/>
        </p:nvSpPr>
        <p:spPr>
          <a:xfrm>
            <a:off x="1187280" y="5229360"/>
            <a:ext cx="21600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对角圆角矩形 35"/>
          <p:cNvSpPr/>
          <p:nvPr/>
        </p:nvSpPr>
        <p:spPr>
          <a:xfrm>
            <a:off x="539640" y="1557360"/>
            <a:ext cx="7417080" cy="4175280"/>
          </a:xfrm>
          <a:custGeom>
            <a:avLst/>
            <a:gdLst/>
            <a:ahLst/>
            <a:rect l="l" t="t" r="r" b="b"/>
            <a:pathLst>
              <a:path w="7416824" h="4176464">
                <a:moveTo>
                  <a:pt x="696091" y="0"/>
                </a:moveTo>
                <a:lnTo>
                  <a:pt x="7416824" y="0"/>
                </a:lnTo>
                <a:lnTo>
                  <a:pt x="7416824" y="0"/>
                </a:lnTo>
                <a:lnTo>
                  <a:pt x="7416824" y="3480372"/>
                </a:lnTo>
                <a:cubicBezTo>
                  <a:pt x="7416824" y="3864812"/>
                  <a:pt x="7105173" y="4176463"/>
                  <a:pt x="6720733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17720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515240" y="2060640"/>
            <a:ext cx="1662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ě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送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给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533560" y="2060640"/>
            <a:ext cx="177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角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旦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444320" y="3645000"/>
            <a:ext cx="142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几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几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468760" y="3860640"/>
            <a:ext cx="1741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è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上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尉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75852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464724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611280" y="40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64724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左大括号 15"/>
          <p:cNvSpPr/>
          <p:nvPr/>
        </p:nvSpPr>
        <p:spPr>
          <a:xfrm>
            <a:off x="1042920" y="242100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大括号 16"/>
          <p:cNvSpPr/>
          <p:nvPr/>
        </p:nvSpPr>
        <p:spPr>
          <a:xfrm>
            <a:off x="1042920" y="393372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7"/>
          <p:cNvSpPr/>
          <p:nvPr/>
        </p:nvSpPr>
        <p:spPr>
          <a:xfrm>
            <a:off x="5003640" y="422100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左大括号 18"/>
          <p:cNvSpPr/>
          <p:nvPr/>
        </p:nvSpPr>
        <p:spPr>
          <a:xfrm>
            <a:off x="5076720" y="242100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599"/>
                </a:cubicBezTo>
                <a:lnTo>
                  <a:pt x="10800" y="10201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399"/>
                </a:cubicBezTo>
                <a:lnTo>
                  <a:pt x="10800" y="21001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对角圆角矩形 19"/>
          <p:cNvSpPr/>
          <p:nvPr/>
        </p:nvSpPr>
        <p:spPr>
          <a:xfrm>
            <a:off x="539640" y="1484280"/>
            <a:ext cx="7704360" cy="4392720"/>
          </a:xfrm>
          <a:custGeom>
            <a:avLst/>
            <a:gdLst/>
            <a:ahLst/>
            <a:rect l="l" t="t" r="r" b="b"/>
            <a:pathLst>
              <a:path w="7704856" h="4392488">
                <a:moveTo>
                  <a:pt x="732095" y="0"/>
                </a:moveTo>
                <a:lnTo>
                  <a:pt x="7704856" y="0"/>
                </a:lnTo>
                <a:lnTo>
                  <a:pt x="7704856" y="0"/>
                </a:lnTo>
                <a:lnTo>
                  <a:pt x="7704856" y="3660392"/>
                </a:lnTo>
                <a:cubicBezTo>
                  <a:pt x="7704856" y="4064717"/>
                  <a:pt x="7377086" y="4392487"/>
                  <a:pt x="6972761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1032840" y="141444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253520" y="206064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缭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嘹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官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365800" y="1844640"/>
            <a:ext cx="228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点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uò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啜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uò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辍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214640" y="3933720"/>
            <a:ext cx="2058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骇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惊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应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桃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219640" y="4005360"/>
            <a:ext cx="266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iē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瞥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iē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憋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弊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作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左大括号 11"/>
          <p:cNvSpPr/>
          <p:nvPr/>
        </p:nvSpPr>
        <p:spPr>
          <a:xfrm>
            <a:off x="611280" y="234936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0000"/>
              <a:gd name="textAreaBottom" fmla="*/ 14306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左大括号 12"/>
          <p:cNvSpPr/>
          <p:nvPr/>
        </p:nvSpPr>
        <p:spPr>
          <a:xfrm>
            <a:off x="4716360" y="220500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0000"/>
              <a:gd name="textAreaBottom" fmla="*/ 14306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左大括号 13"/>
          <p:cNvSpPr/>
          <p:nvPr/>
        </p:nvSpPr>
        <p:spPr>
          <a:xfrm>
            <a:off x="684360" y="4221000"/>
            <a:ext cx="358560" cy="1440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9360 h 1440000"/>
              <a:gd name="textAreaBottom" fmla="*/ 14306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左大括号 14"/>
          <p:cNvSpPr/>
          <p:nvPr/>
        </p:nvSpPr>
        <p:spPr>
          <a:xfrm>
            <a:off x="4859280" y="429264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0000"/>
              <a:gd name="textAreaBottom" fmla="*/ 14306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对角圆角矩形 15"/>
          <p:cNvSpPr/>
          <p:nvPr/>
        </p:nvSpPr>
        <p:spPr>
          <a:xfrm>
            <a:off x="539640" y="1413000"/>
            <a:ext cx="7920000" cy="4680000"/>
          </a:xfrm>
          <a:custGeom>
            <a:avLst/>
            <a:gdLst/>
            <a:ahLst/>
            <a:rect l="l" t="t" r="r" b="b"/>
            <a:pathLst>
              <a:path w="7920880" h="4680520">
                <a:moveTo>
                  <a:pt x="780102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3900417"/>
                </a:lnTo>
                <a:cubicBezTo>
                  <a:pt x="7920880" y="4331255"/>
                  <a:pt x="7571616" y="4680519"/>
                  <a:pt x="7140778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962640" y="14857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成语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060640"/>
          <a:ext cx="8064360" cy="4017960"/>
        </p:xfrm>
        <a:graphic>
          <a:graphicData uri="http://schemas.openxmlformats.org/drawingml/2006/table">
            <a:tbl>
              <a:tblPr/>
              <a:tblGrid>
                <a:gridCol w="895320"/>
                <a:gridCol w="7169040"/>
              </a:tblGrid>
              <a:tr h="76356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富丽堂皇　金碧辉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求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辨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矩形 6"/>
          <p:cNvSpPr/>
          <p:nvPr/>
        </p:nvSpPr>
        <p:spPr>
          <a:xfrm>
            <a:off x="1547640" y="306864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含有“华丽异常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1476360" y="378936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丽堂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侧重于气势宏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形容建筑物宏伟美丽的气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形容室内华丽精致的布置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所有大教堂的财宝加在一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还抵不上东方这座了不起的富丽堂皇的博物馆。金碧辉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侧重于光彩夺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形容建筑物等异常华丽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晨的紫禁城在阳光的照射下金碧辉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045800" y="1360080"/>
            <a:ext cx="137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名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荡然无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丽堂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眼花缭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功伟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利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一无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476360" y="191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一个地方或一家人家的财物抢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3002040" y="2421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够用语言形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1979640" y="2852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原有的东西完全失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2708640" y="3284640"/>
            <a:ext cx="11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宏伟美丽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气势宏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1979640" y="371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眼睛看见复杂纷繁的东西而感到迷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2293920" y="42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伟大的功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979640" y="465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战时从敌方缴获的武器、装备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979640" y="501336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有这一个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第二个。形容唯一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相同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以相比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对角圆角矩形 16"/>
          <p:cNvSpPr/>
          <p:nvPr/>
        </p:nvSpPr>
        <p:spPr>
          <a:xfrm>
            <a:off x="324000" y="1413000"/>
            <a:ext cx="8280360" cy="4608360"/>
          </a:xfrm>
          <a:custGeom>
            <a:avLst/>
            <a:gdLst/>
            <a:ahLst/>
            <a:rect l="l" t="t" r="r" b="b"/>
            <a:pathLst>
              <a:path w="8280920" h="4608512">
                <a:moveTo>
                  <a:pt x="76810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840411"/>
                </a:lnTo>
                <a:cubicBezTo>
                  <a:pt x="8280920" y="4264621"/>
                  <a:pt x="7937030" y="4608511"/>
                  <a:pt x="7512820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721520" y="1683000"/>
            <a:ext cx="56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802—1885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国浪漫主义文学运动的领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史上最伟大的作家之一。他的一生几乎跨越整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文学生涯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之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力经久不衰。他的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漫主义小说精彩动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雄浑有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读者具有永久的魅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国有影响的人物。其代表作有《巴黎圣母院》《悲惨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界》等长篇小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对角圆角矩形 5"/>
          <p:cNvSpPr/>
          <p:nvPr/>
        </p:nvSpPr>
        <p:spPr>
          <a:xfrm>
            <a:off x="324000" y="1557360"/>
            <a:ext cx="8064360" cy="3959280"/>
          </a:xfrm>
          <a:custGeom>
            <a:avLst/>
            <a:gdLst/>
            <a:ahLst/>
            <a:rect l="l" t="t" r="r" b="b"/>
            <a:pathLst>
              <a:path w="8064896" h="3960440">
                <a:moveTo>
                  <a:pt x="660086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300353"/>
                </a:lnTo>
                <a:cubicBezTo>
                  <a:pt x="8064896" y="3664908"/>
                  <a:pt x="7769365" y="3960439"/>
                  <a:pt x="7404810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17.jpg" descr=""/>
          <p:cNvPicPr/>
          <p:nvPr/>
        </p:nvPicPr>
        <p:blipFill>
          <a:blip r:embed="rId2"/>
          <a:stretch/>
        </p:blipFill>
        <p:spPr>
          <a:xfrm>
            <a:off x="5024520" y="4545000"/>
            <a:ext cx="30542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5" name="矩形 4"/>
          <p:cNvSpPr/>
          <p:nvPr/>
        </p:nvSpPr>
        <p:spPr>
          <a:xfrm>
            <a:off x="684360" y="1484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法联军远征中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史称第二次鸦片战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56~186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由英法联合发动的侵华战争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6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法联军进犯北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咸丰帝逃往热河避难。英法联军攻入北京后对圆明园进行了震惊中外的抢劫和焚烧。联军头目之一的巴特勒上尉想利用雨果的显赫威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他给远征中国的所谓“胜利”捧场。雨果站在人类正义的高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6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写下了这篇谴责英法联军暴行的《就英法联军远征中国给巴特勒上尉的信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对角圆角矩形 5"/>
          <p:cNvSpPr/>
          <p:nvPr/>
        </p:nvSpPr>
        <p:spPr>
          <a:xfrm>
            <a:off x="468360" y="1557360"/>
            <a:ext cx="8207280" cy="4392720"/>
          </a:xfrm>
          <a:custGeom>
            <a:avLst/>
            <a:gdLst/>
            <a:ahLst/>
            <a:rect l="l" t="t" r="r" b="b"/>
            <a:pathLst>
              <a:path w="8208912" h="4392488">
                <a:moveTo>
                  <a:pt x="732095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660392"/>
                </a:lnTo>
                <a:cubicBezTo>
                  <a:pt x="8208912" y="4064717"/>
                  <a:pt x="7881142" y="4392487"/>
                  <a:pt x="7476817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2058840" y="2035080"/>
            <a:ext cx="493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借巴特勒上尉让他“捧场”之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焚掠圆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园事件切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英法联军远征中国之举进行了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谴责和抗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也表现了他对中国所遭受的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劫难的深切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对角圆角矩形 5"/>
          <p:cNvSpPr/>
          <p:nvPr/>
        </p:nvSpPr>
        <p:spPr>
          <a:xfrm>
            <a:off x="395280" y="1844640"/>
            <a:ext cx="8209080" cy="3456000"/>
          </a:xfrm>
          <a:custGeom>
            <a:avLst/>
            <a:gdLst/>
            <a:ahLst/>
            <a:rect l="l" t="t" r="r" b="b"/>
            <a:pathLst>
              <a:path w="8208912" h="3456384">
                <a:moveTo>
                  <a:pt x="576075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2880308"/>
                </a:lnTo>
                <a:cubicBezTo>
                  <a:pt x="8208912" y="3198465"/>
                  <a:pt x="7950994" y="3456383"/>
                  <a:pt x="7632837" y="3456383"/>
                </a:cubicBezTo>
                <a:lnTo>
                  <a:pt x="0" y="3456384"/>
                </a:lnTo>
                <a:lnTo>
                  <a:pt x="0" y="3456384"/>
                </a:lnTo>
                <a:lnTo>
                  <a:pt x="0" y="576075"/>
                </a:lnTo>
                <a:cubicBezTo>
                  <a:pt x="0" y="257918"/>
                  <a:pt x="257918" y="0"/>
                  <a:pt x="57607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2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960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雨林木风</cp:lastModifiedBy>
  <dcterms:modified xsi:type="dcterms:W3CDTF">2018-03-07T06:34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